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401-3ABD-454B-8EB7-5A0CD0B1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67C-2980-4EC1-AE52-9C3829C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9E1-75BD-45C1-A163-C22709D8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4F2-8581-4148-8C2C-E32C0539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A56-95A8-4C8B-AB9D-13A437D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A46-40B8-4AC4-991D-BCA1B2C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16-F910-42BA-8D8A-346BA85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6CD-E993-4423-AE4D-22A3E378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3C3-2A6C-4FF3-923E-FF78271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0D6-430C-4BB4-8A60-3D33AAF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69D-5450-4192-85B7-3395E50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4EF-33A7-437A-BDBF-6788CC7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DC5-72A9-4DDB-AE82-771EA50E3E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9:02:37Z</dcterms:created>
  <dc:creator>Grupo Editorial</dc:creator>
  <dc:description/>
  <dc:language>en-US</dc:language>
  <cp:lastModifiedBy>TORRES</cp:lastModifiedBy>
  <dcterms:modified xsi:type="dcterms:W3CDTF">2010-12-18T22:17:02Z</dcterms:modified>
  <cp:revision>2</cp:revision>
  <dc:subject/>
  <dc:title>Sin título de diapositiva</dc:title>
</cp:coreProperties>
</file>